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317-36F5-4084-B728-4E43BA22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AE4-55FA-4406-BC7B-288ED587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AC8-65EF-471D-B70D-8348707F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9A7-6F77-4FCE-A90D-9FB3011B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070-99DE-41A2-8A81-406418EF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C9C-74C5-4429-A891-8B51829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367-AF19-4620-A269-860146B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B00-0008-4E9E-B7BB-8D84019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ECD-2373-4321-BF47-3BBD71C9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3ED-1E02-495A-BA49-C25421A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D89-D40A-4FA7-BF29-0AE638B6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81E-33A0-40A4-9BB7-F7F7765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D25B-BEA8-4F9F-A443-C904658BB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28720" y="298440"/>
            <a:ext cx="7351560" cy="419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905120" y="52689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Aubrey Langley, Ashley Agerter, and Joe Ka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51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irst Platoon of Navajo Code Tal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navajo code talkers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304920" y="30492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86040" y="57150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avajo Reservation in Arizo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Placeholder 4" descr="4013518538_bca658ef76.jpg"/>
          <p:cNvPicPr/>
          <p:nvPr/>
        </p:nvPicPr>
        <p:blipFill>
          <a:blip r:embed="rId1"/>
          <a:stretch/>
        </p:blipFill>
        <p:spPr>
          <a:xfrm>
            <a:off x="609480" y="838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320" y="5181480"/>
            <a:ext cx="403884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Keith Little studying and learning the code with his fellow code talk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2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457200" y="914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480" y="56386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avajo Code Talker, Keith Little transmitting mess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8.jpg"/>
          <p:cNvPicPr/>
          <p:nvPr/>
        </p:nvPicPr>
        <p:blipFill>
          <a:blip r:embed="rId1"/>
          <a:srcRect l="2385" t="0" r="2385" b="0"/>
          <a:stretch/>
        </p:blipFill>
        <p:spPr>
          <a:xfrm>
            <a:off x="609480" y="685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0:03Z</dcterms:created>
  <dc:creator>Installer</dc:creator>
  <dc:description/>
  <dc:language>en-US</dc:language>
  <cp:lastModifiedBy>Information Technology</cp:lastModifiedBy>
  <dcterms:modified xsi:type="dcterms:W3CDTF">2010-02-11T16:06:50Z</dcterms:modified>
  <cp:revision>17</cp:revision>
  <dc:subject/>
  <dc:title>Slide 1</dc:title>
</cp:coreProperties>
</file>